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07F-7677-4965-ABF8-F89366A9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5657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00280" y="5507640"/>
            <a:ext cx="5657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96F-EE79-43AA-A926-0B15F216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00280" y="550764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699720" y="550764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5F45-E0D0-48CA-A7C6-077FDA35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713320" y="264168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26360" y="264168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00280" y="550764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713320" y="550764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626360" y="550764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A59-8B89-4A31-A4A6-EA9F8259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BC9A-BA40-441B-AE16-43D34F65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800280" y="2641680"/>
            <a:ext cx="56577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B04D-E318-4560-A389-47579529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5657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5549-0DBE-4C3B-8298-9E9C4FEF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5045-A86F-45C9-B38F-C6524833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BA48-40B4-40AD-9BE8-635EA50F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00280" y="406080"/>
            <a:ext cx="5657760" cy="88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C7F2-3231-452F-8F17-6A02B46A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0280" y="550764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F1C4-2B77-4406-8210-048ECEAE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00280" y="2641680"/>
            <a:ext cx="56577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59B-18BC-482B-B9B9-EC989D01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699720" y="550764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4F7F-1D1E-428C-B48E-BD399B47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00280" y="5507640"/>
            <a:ext cx="5657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6642-0F95-4E4A-BD67-08FD0FCB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5657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800280" y="5507640"/>
            <a:ext cx="5657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1424-813A-4F3D-BA5E-0C8188C2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00280" y="550764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699720" y="550764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BABC-7D83-495B-A627-970D93FC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713320" y="264168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26360" y="264168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800280" y="550764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2713320" y="550764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4626360" y="550764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07D2-A29D-4234-A683-F2DC950C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5657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980-F546-42CE-9CC0-709CC92E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23A-D84D-43FF-99ED-35798E4D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AEB-AC03-45B1-81A7-D7F76545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00280" y="406080"/>
            <a:ext cx="5657760" cy="88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E67-9764-4B9F-A754-DA516A06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00280" y="550764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288-A1ED-4A10-9566-DA6A597C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99720" y="550764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085-2511-4725-A2A6-DD2DE2D1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" y="5507640"/>
            <a:ext cx="5657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91E-CDEB-49E3-9842-9048E456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7920"/>
            <a:ext cx="6856560" cy="9135720"/>
            <a:chOff x="0" y="7920"/>
            <a:chExt cx="6856560" cy="9135720"/>
          </a:xfrm>
        </p:grpSpPr>
        <p:sp>
          <p:nvSpPr>
            <p:cNvPr id="1" name="Freeform 3"/>
            <p:cNvSpPr/>
            <p:nvPr/>
          </p:nvSpPr>
          <p:spPr>
            <a:xfrm>
              <a:off x="664560" y="2457000"/>
              <a:ext cx="6192000" cy="6686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457000"/>
              <a:ext cx="664560" cy="6686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7920"/>
              <a:ext cx="6856560" cy="9135000"/>
              <a:chOff x="0" y="7920"/>
              <a:chExt cx="6856560" cy="913500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657000" y="7920"/>
                <a:ext cx="14040" cy="14706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57000" y="3434400"/>
                <a:ext cx="14040" cy="57085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213560" y="2443680"/>
                <a:ext cx="5643000" cy="252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657000" y="2901240"/>
                <a:ext cx="14040" cy="5331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57000" y="1478520"/>
                <a:ext cx="14040" cy="5335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57000" y="2012400"/>
                <a:ext cx="14040" cy="88884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2443680"/>
                <a:ext cx="417960" cy="252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912960" y="2443680"/>
                <a:ext cx="300240" cy="2520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14360" y="2443680"/>
                <a:ext cx="498600" cy="2520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657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8002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50288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27D9-EADC-46B9-B235-7CF9D1969ECC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7920"/>
            <a:ext cx="6856560" cy="9135360"/>
            <a:chOff x="0" y="7920"/>
            <a:chExt cx="6856560" cy="913536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2457000"/>
              <a:ext cx="6856560" cy="6686280"/>
              <a:chOff x="0" y="2457000"/>
              <a:chExt cx="6856560" cy="668628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664560" y="2457000"/>
                <a:ext cx="6192000" cy="66862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2457000"/>
                <a:ext cx="664560" cy="66862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657000" y="2012400"/>
              <a:ext cx="14040" cy="88884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912960" y="2444040"/>
              <a:ext cx="300240" cy="2520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2444040"/>
              <a:ext cx="417960" cy="25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414360" y="7920"/>
              <a:ext cx="6441480" cy="9135000"/>
              <a:chOff x="414360" y="7920"/>
              <a:chExt cx="6441480" cy="913500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657000" y="7920"/>
                <a:ext cx="14040" cy="14706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657000" y="3434400"/>
                <a:ext cx="14040" cy="57085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213200" y="2443680"/>
                <a:ext cx="5642640" cy="252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657000" y="2901240"/>
                <a:ext cx="14040" cy="5331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657000" y="1478520"/>
                <a:ext cx="14040" cy="5335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414360" y="2443680"/>
                <a:ext cx="498600" cy="2520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657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33920" indent="-2145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8002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251424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50288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0887-4CEB-483B-A65B-2FDFB65061EE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360" y="468360"/>
            <a:ext cx="58291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800" spc="-1" strike="noStrike">
                <a:solidFill>
                  <a:srgbClr val="99ccff"/>
                </a:solidFill>
                <a:latin typeface="Times New Roman"/>
              </a:rPr>
              <a:t>PF 2011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557000" y="6300360"/>
            <a:ext cx="403236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Zastupitelstvo obce Cvrčovice přeje všem občanům krásné prožití vánočních svátků, šťastný Nový rok a vše dobré do roku 20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484280" y="3132000"/>
            <a:ext cx="42483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484280" y="3059280"/>
            <a:ext cx="42483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1"/>
          <a:stretch/>
        </p:blipFill>
        <p:spPr>
          <a:xfrm>
            <a:off x="1773360" y="2195640"/>
            <a:ext cx="3375000" cy="35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7:46:36Z</dcterms:created>
  <dc:creator>Jakub</dc:creator>
  <dc:description/>
  <dc:language>en-US</dc:language>
  <cp:lastModifiedBy>Honzík</cp:lastModifiedBy>
  <dcterms:modified xsi:type="dcterms:W3CDTF">2010-12-10T17:50:27Z</dcterms:modified>
  <cp:revision>4</cp:revision>
  <dc:subject/>
  <dc:title>PF 2011</dc:title>
</cp:coreProperties>
</file>