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ACF-0040-4E83-8171-09C66710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F06-7051-4F5B-A393-7506A63A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E4F-D9A5-43EA-82DD-691CC661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71332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2636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0028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71332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62636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2BA-B749-4C65-A6AD-F94B32E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B436-30C9-4D96-A751-21F03636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AA88-181C-418A-98D7-9E54D61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A6E9-4401-46FE-BCAF-6BACCE0E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8953-66BF-47F8-921E-269B4D7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A112-6FC4-4E81-AFBC-C3917935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00280" y="406080"/>
            <a:ext cx="56577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B7C4-E0EA-4FCB-A508-DD067B8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91B9-D84A-462B-A6A5-BB92841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E1A-44E4-4CC1-B4D7-633F9F67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6F47-87B9-47B7-A7B6-260FC9C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115F-64B5-4B66-8C3A-3FF5507F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F51B-E38A-429D-BEC8-C694363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B92A-99C9-4CA6-A081-33534E4A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71332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26360" y="264168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0028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271332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4626360" y="5507640"/>
            <a:ext cx="1821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5EC-2C17-415F-9FE3-0DCFBE1E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B1C-ABC3-4A77-B9A1-BA9E62D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8DC-2709-4E9B-91BB-2647BEC6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48B-769B-4A35-9306-6B7C1B9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00280" y="406080"/>
            <a:ext cx="5657760" cy="88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0D0-63A2-4FE7-8F92-D82B16AA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645-7248-438F-B5D7-50EEA47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99720" y="550764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49C-1408-4E22-A414-D5B5DF4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028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720" y="2641680"/>
            <a:ext cx="2760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0280" y="5507640"/>
            <a:ext cx="5657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39A-257B-4129-9DF1-3AE85E0B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7920"/>
            <a:ext cx="6856560" cy="9135720"/>
            <a:chOff x="0" y="7920"/>
            <a:chExt cx="6856560" cy="9135720"/>
          </a:xfrm>
        </p:grpSpPr>
        <p:sp>
          <p:nvSpPr>
            <p:cNvPr id="1" name="Freeform 3"/>
            <p:cNvSpPr/>
            <p:nvPr/>
          </p:nvSpPr>
          <p:spPr>
            <a:xfrm>
              <a:off x="664560" y="2457000"/>
              <a:ext cx="6192000" cy="6686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457000"/>
              <a:ext cx="664560" cy="6686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7920"/>
              <a:ext cx="6856560" cy="9135000"/>
              <a:chOff x="0" y="7920"/>
              <a:chExt cx="6856560" cy="913500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657000" y="7920"/>
                <a:ext cx="14040" cy="14706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57000" y="3434400"/>
                <a:ext cx="14040" cy="5708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213560" y="2443680"/>
                <a:ext cx="5643000" cy="252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657000" y="2901240"/>
                <a:ext cx="14040" cy="5331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57000" y="1478520"/>
                <a:ext cx="14040" cy="533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57000" y="2012400"/>
                <a:ext cx="14040" cy="88884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2443680"/>
                <a:ext cx="417960" cy="252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912960" y="2443680"/>
                <a:ext cx="300240" cy="252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4360" y="2443680"/>
                <a:ext cx="498600" cy="252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3785-BEF2-48B8-9AFD-4EDEA28AA6BD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7920"/>
            <a:ext cx="6856560" cy="9135360"/>
            <a:chOff x="0" y="7920"/>
            <a:chExt cx="6856560" cy="913536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2457000"/>
              <a:ext cx="6856560" cy="6686280"/>
              <a:chOff x="0" y="2457000"/>
              <a:chExt cx="6856560" cy="668628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664560" y="2457000"/>
                <a:ext cx="6192000" cy="66862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2457000"/>
                <a:ext cx="664560" cy="668628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657000" y="2012400"/>
              <a:ext cx="14040" cy="88884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912960" y="2444040"/>
              <a:ext cx="300240" cy="2520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2444040"/>
              <a:ext cx="417960" cy="25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414360" y="7920"/>
              <a:ext cx="6441480" cy="9135000"/>
              <a:chOff x="414360" y="7920"/>
              <a:chExt cx="6441480" cy="913500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657000" y="7920"/>
                <a:ext cx="14040" cy="14706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657000" y="3434400"/>
                <a:ext cx="14040" cy="5708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213200" y="2443680"/>
                <a:ext cx="5642640" cy="252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657000" y="2901240"/>
                <a:ext cx="14040" cy="5331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657000" y="1478520"/>
                <a:ext cx="14040" cy="5335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414360" y="2443680"/>
                <a:ext cx="498600" cy="2520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0280" y="406080"/>
            <a:ext cx="565776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657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8002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251424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0288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D470-4A02-4241-81A8-880C52BC02B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360" y="468360"/>
            <a:ext cx="58291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800" spc="-1" strike="noStrike">
                <a:solidFill>
                  <a:srgbClr val="99ccff"/>
                </a:solidFill>
                <a:latin typeface="Times New Roman"/>
              </a:rPr>
              <a:t>PF 2011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57000" y="6300360"/>
            <a:ext cx="403236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Zastupitelstvo obce Cvrčovice přeje všem občanům krásné prožití vánočních svátků, šťastný Nový rok a vše dobré do roku 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84280" y="3132000"/>
            <a:ext cx="42483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484280" y="3059280"/>
            <a:ext cx="42483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773360" y="2195640"/>
            <a:ext cx="3375000" cy="35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7:46:36Z</dcterms:created>
  <dc:creator>Jakub</dc:creator>
  <dc:description/>
  <dc:language>en-US</dc:language>
  <cp:lastModifiedBy>Honzík</cp:lastModifiedBy>
  <dcterms:modified xsi:type="dcterms:W3CDTF">2010-12-10T17:50:27Z</dcterms:modified>
  <cp:revision>4</cp:revision>
  <dc:subject/>
  <dc:title>PF 2011</dc:title>
</cp:coreProperties>
</file>